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C3830-D3EB-43A0-8EA4-DC3892982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35F82-606C-4B31-AE45-113837365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CEDF2-F048-4CC8-A6A3-214F6D35E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8E3C2-DE27-4D4F-9CC8-A2676B2E6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5F008-A1B9-4D48-813F-894447A9E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D524E-050E-498D-92EB-68BB475C0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44D32-718C-49F7-BAF3-645DF992F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E85DA-097E-4552-BBCA-515F4B4BA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27861-4259-4D35-9DC1-9AC5E9011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66A8A-EDF8-45F0-BAB9-09C9CC342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3D4EB-C7EB-4F02-AD86-60B062889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CA778-A598-45FD-8088-83A325676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399A2-45CA-4C4C-8FE7-C6FA358AAA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ALTE ROMANE  REALISTE INTERBEL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09680" y="3352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Manualul de Limba şi Literatura Română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, clasa a X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a, Doina Ruşti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228600"/>
            <a:ext cx="8001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- SIMULARE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 - SIMULARE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267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Liviu Rebreanu – Ion (1920):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ersonajul titular al romanului ilustrează prin biografia sa situaţia satului românesc de la finele secolului al XIX-lea şi începutul secolului al XX-lea, din Transilvania, aflată în momentul acela sub ocupaţie austro-ungară. Destinul personajului este urmărit de-a lungul a două volume: 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Glasul pământului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şi 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Glasul iubirii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on este sărac şi îşi doreşte cu ardoare să aibă pământ, să fie respectat şi iubit. El îşi îndeplineşte cu agresivitate idealul, trăind intens şi sfârşind dramat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Liviu Rebreanu – Pădurea spânzuraţilor (1922):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este un roman despre conflictul dintre sentimentul datoriei şi cel al iubirii de ţară. Rebreanu creează aici un model de analiză psihologic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Liviu Rebreanu – Răscoala (1932):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surprinde psihologia colectivă într-un moment limită, în contextul evenimentului real de la 190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Liviu Rebreanu – Gorila (1938):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prezintă mai ales interes documentar, deoarece transpune perioada legionară, într-o încercare meritorie de conservare a obiectivităţii de scriitor realis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876920" y="1447920"/>
            <a:ext cx="353376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 - SIMULARE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Teme şi evaluare orientativ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Notă minimă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Realizaţi în scris caracterizarea a două personaje din Enigma Otiliei şi încadraţi-le într-o categorie umană sau socială. 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ezentaţi trăsăturile romanului călinescian.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Explicaţi ce se înţelege prin </a:t>
            </a:r>
            <a:r>
              <a:rPr b="0" i="1" lang="ro-RO" sz="1200" spc="-1" strike="noStrike">
                <a:solidFill>
                  <a:srgbClr val="000000"/>
                </a:solidFill>
                <a:latin typeface="Arial"/>
              </a:rPr>
              <a:t>hipercorectitudine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crieţi o scurtă compunere (20-30 de rânduri), la persoana I singular, în care să relataţi scena întâlnirii lui Felix cu unchiul său.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Notă med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legeţi un citat din miniantologie şi comentaţi-l oral, cu referiri la subiectul operei în discuţi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ăsiţi în romanul lui Călinescu cinci informaţii despre epocă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Realizaţi în scris schiţa caracteriologică a cinci personaje din roman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Notă m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În ce constă clasicismul operei lui Călinescu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? [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mentaţi în scris teoria lui Pascalopol despre sufletul mediocru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racterizaţi vocea auctorială din romanul călinescian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NEE</dc:creator>
  <dc:description/>
  <dc:language>en-US</dc:language>
  <cp:lastModifiedBy>livia</cp:lastModifiedBy>
  <dcterms:modified xsi:type="dcterms:W3CDTF">2010-01-18T17:57:13Z</dcterms:modified>
  <cp:revision>15</cp:revision>
  <dc:subject/>
  <dc:title>ALTE ROMANE  REALISTE INTERBEL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